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21386800" cy="302799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2CB7E63-1853-454B-B022-6F2BFB6BA7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217600" y="685800"/>
            <a:ext cx="2422080" cy="3428640"/>
          </a:xfrm>
          <a:prstGeom prst="rect">
            <a:avLst/>
          </a:prstGeom>
          <a:ln w="0">
            <a:noFill/>
          </a:ln>
        </p:spPr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イズ用テンプレート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ページサイズが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イズになっていま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余白やフチが必要無い場合は端まで描画して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入稿データにする時は「ＰＤＦ形式」で保存して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CC808C5-22DE-480A-82E0-18BC8F1616E9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9200" y="1208160"/>
            <a:ext cx="1924776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9200" y="7085160"/>
            <a:ext cx="1924776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1069200" y="16258320"/>
            <a:ext cx="1924776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9200" y="1208160"/>
            <a:ext cx="1924776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9200" y="7085160"/>
            <a:ext cx="939276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0932120" y="7085160"/>
            <a:ext cx="939276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9200" y="16258320"/>
            <a:ext cx="939276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10932120" y="16258320"/>
            <a:ext cx="939276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9200" y="1208160"/>
            <a:ext cx="1924776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9200" y="7085160"/>
            <a:ext cx="619740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576920" y="7085160"/>
            <a:ext cx="619740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084640" y="7085160"/>
            <a:ext cx="619740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069200" y="16258320"/>
            <a:ext cx="619740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7576920" y="16258320"/>
            <a:ext cx="619740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14084640" y="16258320"/>
            <a:ext cx="619740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9200" y="1208160"/>
            <a:ext cx="1924776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1069200" y="7085160"/>
            <a:ext cx="19247760" cy="175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69200" y="1208160"/>
            <a:ext cx="1924776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1069200" y="7085160"/>
            <a:ext cx="19247760" cy="175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9200" y="1208160"/>
            <a:ext cx="1924776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69200" y="7085160"/>
            <a:ext cx="9392760" cy="175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10932120" y="7085160"/>
            <a:ext cx="9392760" cy="175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9200" y="1208160"/>
            <a:ext cx="1924776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1069200" y="1208160"/>
            <a:ext cx="19247760" cy="2343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9200" y="1208160"/>
            <a:ext cx="1924776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9200" y="7085160"/>
            <a:ext cx="939276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0932120" y="7085160"/>
            <a:ext cx="9392760" cy="175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1069200" y="16258320"/>
            <a:ext cx="939276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9200" y="1208160"/>
            <a:ext cx="1924776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9200" y="7085160"/>
            <a:ext cx="9392760" cy="175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10932120" y="7085160"/>
            <a:ext cx="939276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932120" y="16258320"/>
            <a:ext cx="939276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9200" y="1208160"/>
            <a:ext cx="1924776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9200" y="7085160"/>
            <a:ext cx="939276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10932120" y="7085160"/>
            <a:ext cx="939276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9200" y="16258320"/>
            <a:ext cx="1924776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テーマ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  <Words>48</Words>
  <Paragraphs>5</Paragraphs>
  <Company>Hewlett-Packard Company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7T09:16:59Z</dcterms:created>
  <dc:creator>岡智之</dc:creator>
  <dc:description/>
  <dc:language>en-US</dc:language>
  <cp:lastModifiedBy>岡智之</cp:lastModifiedBy>
  <dcterms:modified xsi:type="dcterms:W3CDTF">2016-04-30T08:29:05Z</dcterms:modified>
  <cp:revision>6</cp:revision>
  <dc:subject/>
  <dc:title>スライド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ユーザー設定</vt:lpwstr>
  </property>
  <property fmtid="{D5CDD505-2E9C-101B-9397-08002B2CF9AE}" pid="4" name="Slides">
    <vt:r8>1</vt:r8>
  </property>
</Properties>
</file>